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9B8-D0CD-4BE9-BCE0-8045B589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B05-5CEA-42A8-88EC-545366A4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6F5-33C7-4CC3-96FD-507594D3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B99-2D86-4FAF-8F8E-462CD231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0B05-6AB7-4217-916E-7D62AB52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D68F-6BB6-45C9-8460-791BA2D2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BBDA-24FF-4A23-A375-1C686148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381F-6834-423C-BC9B-BF6C4B3C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942B-FD8B-4D4A-A570-0C71DA49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A0B3-987D-41CC-908C-E9236207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5C1C-E2BB-4B5C-A6CC-E986FE02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E0C-5ADF-468A-A0D3-752E2A14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976C-AC7D-41D9-9493-0EA60DA4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13BE-03F6-4D25-BF1A-76431ED5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0F9F-8E24-40BF-B99D-1E0374CB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0E9B-8C75-4124-94DE-C8D111CD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0140-1D64-42FA-BE6D-08726BAC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0A7-45CB-4A98-8091-ADCCAB69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BE9-285B-43A4-917E-8F722D67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47B-7EFD-49D6-835D-389CB6A6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994-546B-4412-8C65-B50B04CD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4A8-8296-4278-BDAE-1C3E4212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F1F-4CF6-4099-9CD4-39A30875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6DB-E28F-4A53-AEB3-11AADAA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upo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orma libre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orma libre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orma libre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orma libre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Elipse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Elipse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Elipse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EAEC-1C25-4751-8202-4065553267EE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upo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orma libre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orma libre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orma libre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orma libre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Elipse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Elipse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Elipse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7301-6274-472B-AB55-F4B52DB64F61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INSTRUCTORES LAIC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PECIALISTAS EN LA INSTRUCCIÓN E IN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0c0c0"/>
                </a:solidFill>
                <a:latin typeface="BankGothic Md BT"/>
              </a:rPr>
              <a:t>REQUISITOS BÁSIC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ángulo 5"/>
          <p:cNvSpPr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Ser miembro de un Grupo Pequeñ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Trabajar en equipo con otros ministerios espirituales complement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isposición a ser capaci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Servir como Instructor al suplir las necesidades cognoscitivas de su Célu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oyar en la educación de otros Instructores la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c0c0c0"/>
                </a:solidFill>
                <a:latin typeface="BankGothic Md BT"/>
              </a:rPr>
              <a:t>INSTRUCTORES LAICOS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PECIALISTAS EN LA ENSEÑANZA Y PROMO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Imagen 4" descr="Biblia-Esp-38-Mundo-Raz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ángulo 5"/>
          <p:cNvSpPr/>
          <p:nvPr/>
        </p:nvSpPr>
        <p:spPr>
          <a:xfrm>
            <a:off x="2708280" y="51325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700" spc="-1" strike="noStrike">
                <a:solidFill>
                  <a:srgbClr val="ffff00"/>
                </a:solidFill>
                <a:latin typeface="BankGothic Md BT"/>
              </a:rPr>
              <a:t>¡HOY!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ángulo 6"/>
          <p:cNvSpPr/>
          <p:nvPr/>
        </p:nvSpPr>
        <p:spPr>
          <a:xfrm>
            <a:off x="34920" y="189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BankGothic Md BT"/>
              </a:rPr>
              <a:t>JESÚS CUENTA CONTIGO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0c0c0"/>
                </a:solidFill>
                <a:latin typeface="BankGothic Md BT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ste es un seminario introducto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Tiene como objetivo presentar en forma general lo que es este ministe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La Certificación se dará a quien reciba este semin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0c0c0"/>
                </a:solidFill>
                <a:latin typeface="BankGothic Md BT"/>
              </a:rPr>
              <a:t>OBJETIVOS GENER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Tener un cuerpo de Instructores Laicos consagrados a Jesucristo y a la misión de la Iglesia Adventista del 7mo. D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tar con Instructores preparados para capacitar al 80% de los líderes y feligre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tar con Instructores que sean conductores de los Instructores que se añadirán a la igles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ángulo 4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ff00"/>
                </a:solidFill>
                <a:latin typeface="BankGothic Md BT"/>
              </a:rPr>
              <a:t> </a:t>
            </a:r>
            <a:r>
              <a:rPr b="1" lang="es-VE" sz="3600" spc="-1" strike="noStrike">
                <a:solidFill>
                  <a:srgbClr val="ffff00"/>
                </a:solidFill>
                <a:latin typeface="BankGothic Md BT"/>
              </a:rPr>
              <a:t>INSTRUCTORES LAIC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ángulo 5"/>
          <p:cNvSpPr/>
          <p:nvPr/>
        </p:nvSpPr>
        <p:spPr>
          <a:xfrm>
            <a:off x="363600" y="1700280"/>
            <a:ext cx="4495680" cy="453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Rockwell"/>
              </a:rPr>
              <a:t> </a:t>
            </a:r>
            <a:r>
              <a:rPr b="1" lang="es-VE" sz="2800" spc="-1" strike="noStrike">
                <a:solidFill>
                  <a:srgbClr val="ff9900"/>
                </a:solidFill>
                <a:latin typeface="Rockwell"/>
              </a:rPr>
              <a:t>Expertos en la transmisión de conocimiento e información</a:t>
            </a:r>
            <a:r>
              <a:rPr b="1" lang="es-ES" sz="2800" spc="-1" strike="noStrike">
                <a:solidFill>
                  <a:srgbClr val="ff9900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9900"/>
                </a:solidFill>
                <a:latin typeface="Rockwell"/>
              </a:rPr>
              <a:t>Ayudan a los demás ministerios a comprender su ministerio y a perfeccionar sus dones y tal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Imagen 6" descr="PE03166_"/>
          <p:cNvPicPr/>
          <p:nvPr/>
        </p:nvPicPr>
        <p:blipFill>
          <a:blip r:embed="rId1"/>
          <a:stretch/>
        </p:blipFill>
        <p:spPr>
          <a:xfrm>
            <a:off x="6697800" y="2028960"/>
            <a:ext cx="1760400" cy="1857240"/>
          </a:xfrm>
          <a:prstGeom prst="rect">
            <a:avLst/>
          </a:prstGeom>
          <a:ln w="0">
            <a:noFill/>
          </a:ln>
        </p:spPr>
      </p:pic>
      <p:sp>
        <p:nvSpPr>
          <p:cNvPr id="106" name="Cuadro de texto 7"/>
          <p:cNvSpPr/>
          <p:nvPr/>
        </p:nvSpPr>
        <p:spPr>
          <a:xfrm>
            <a:off x="5148360" y="4365720"/>
            <a:ext cx="3671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ff00"/>
                </a:solidFill>
                <a:latin typeface="Subway"/>
              </a:rPr>
              <a:t>“</a:t>
            </a:r>
            <a:r>
              <a:rPr b="1" lang="es-VE" sz="2400" spc="-1" strike="noStrike">
                <a:solidFill>
                  <a:srgbClr val="00ff00"/>
                </a:solidFill>
                <a:latin typeface="Subway"/>
              </a:rPr>
              <a:t>La estructura de esta frase en griego sugiere que Pablo desea hablar de dos fases de una misma función.” CBA t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magen 8" descr="logotipo iglesia ADVENTISTA"/>
          <p:cNvPicPr/>
          <p:nvPr/>
        </p:nvPicPr>
        <p:blipFill>
          <a:blip r:embed="rId2"/>
          <a:stretch/>
        </p:blipFill>
        <p:spPr>
          <a:xfrm>
            <a:off x="0" y="6154560"/>
            <a:ext cx="7570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0c0c0"/>
                </a:solidFill>
                <a:latin typeface="BankGothic Md BT"/>
              </a:rPr>
              <a:t>BASE BÍBLICA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_tradnl" sz="3600" spc="-1" strike="noStrike">
                <a:solidFill>
                  <a:srgbClr val="ffff00"/>
                </a:solidFill>
                <a:latin typeface="Arial"/>
              </a:rPr>
              <a:t>Porque es necesario que el obispo sea irreprensible, como administrador de Dios; … retenedor de la palabra fiel tal como ha sido enseñada, para que también pueda exhortar con sana enseñanza y convencer a los que contradicen.” Tito 1:7,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0c0c0"/>
                </a:solidFill>
                <a:latin typeface="BankGothic Md BT"/>
              </a:rPr>
              <a:t>BASE BÍBLICA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_tradnl" sz="3600" spc="-1" strike="noStrike">
                <a:solidFill>
                  <a:srgbClr val="ffff00"/>
                </a:solidFill>
                <a:latin typeface="Arial"/>
              </a:rPr>
              <a:t>presentándote tú en todo como ejemplo de buenas obras; en la enseñanza mostrando integridad, seriedad, palabra sana e irreprochable, de modo que el adversario se avergüence, y no tenga nada malo que decir de vosotros.” Tito 2:7,8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0c0c0"/>
                </a:solidFill>
                <a:latin typeface="BankGothic Md BT"/>
              </a:rPr>
              <a:t>CARACTERÍSTICA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No todos los ancianos son Instructores Laicos pero algunos rasgos de éstos pueden describir a los Instruct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Irreprensible. Ejemplo de lo que enseñ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Ser un amante del estudio y de la lectura, así podrá retener la palabra fi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buen exhortador. Es más que enseñar, motiva al camb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0c0c0"/>
                </a:solidFill>
                <a:latin typeface="BankGothic Md BT"/>
              </a:rPr>
              <a:t>CARACTERÍSTICA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Que su enseñanza convenz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Sólida y presentada de una manera organizada y pertin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Integridad en la enseñanz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eriedad en la enseñanza y en la informació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0c0c0"/>
                </a:solidFill>
                <a:latin typeface="BankGothic Md BT"/>
              </a:rPr>
              <a:t>INSTRUCCIÓN INDISPENS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Enseñanza de Adult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Administración de Person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Promoción sencill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Doctrinas bíblic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Historia Denominacion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y Devis</cp:lastModifiedBy>
  <dcterms:modified xsi:type="dcterms:W3CDTF">2010-06-07T14:53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